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609480"/>
            <a:ext cx="1046484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our Corner 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ynectics Activi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 your group: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rainstorm as many possible reasons for your choice as possible.  List them on the paper provid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har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are back to your seats – share analogies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can we implement more effective questioning strategies in our teaching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ffective Question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0480" y="30456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? ? ?Effective Questioning? ? ?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63280" y="1980720"/>
            <a:ext cx="1173492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mplify: “Tell me more about that.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arify: “What do you mean when you say such and such? Explain that a bit more.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araphrase/Summarize: “Tell me what happened in your own words.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ause/Effect: “Which happened first? Did that lead to something? Why? What were the causes?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82760" y="2768400"/>
            <a:ext cx="12191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611640" indent="-4168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Compare Contrast: “What do these two have in common? How are they different? Have you learned anything like this before? What does this information remind you of?”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Example: “Can you give an example of this?” 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Definition: “How would you define this?”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Characteristic: “What’s a characteristic of this?”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Qualification: “When is this not true? Are there any exceptions to this?”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urce: Meyer, E., &amp; Smith L.Z. (1987).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The practical tuto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. New York: Oxford University Press. p.34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11640" indent="-4168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magine a situation in which questioning is motivating and promotes and supports student learning and responding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would you SEE, HEAR, AND FEEL in such an environmen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would YOU be doing?  What would STUDENTS be doing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rainstorm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st as many genres of books as you ca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Four Corners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Straight Connector 4"/>
          <p:cNvSpPr/>
          <p:nvPr/>
        </p:nvSpPr>
        <p:spPr>
          <a:xfrm flipH="1">
            <a:off x="6350040" y="2743200"/>
            <a:ext cx="76320" cy="6172200"/>
          </a:xfrm>
          <a:prstGeom prst="line">
            <a:avLst/>
          </a:prstGeom>
          <a:ln w="76320">
            <a:solidFill>
              <a:srgbClr val="ffff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Straight Connector 6"/>
          <p:cNvSpPr/>
          <p:nvPr/>
        </p:nvSpPr>
        <p:spPr>
          <a:xfrm flipH="1">
            <a:off x="3530160" y="5486400"/>
            <a:ext cx="5715000" cy="0"/>
          </a:xfrm>
          <a:prstGeom prst="line">
            <a:avLst/>
          </a:prstGeom>
          <a:ln w="76320">
            <a:solidFill>
              <a:srgbClr val="ffff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REATE A METAPHOR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FFECTIVE QUESTIONING IS LIKE _____________ BECAUSE ________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11000" y="1142640"/>
            <a:ext cx="11404440" cy="800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1309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hoose a genre that best describes your teaching style.</a:t>
            </a:r>
            <a:br>
              <a:rPr sz="8400"/>
            </a:b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Go to that corner of the room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PSTech Coordinator</cp:lastModifiedBy>
  <dcterms:modified xsi:type="dcterms:W3CDTF">2011-10-05T09:12:02Z</dcterms:modified>
  <cp:revision>6</cp:revision>
  <dc:subject/>
  <dc:title>Four Corner Synectics Activity</dc:title>
</cp:coreProperties>
</file>